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248E-DF24-4056-BD35-A70524F7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E00E-49D7-462F-86AC-61A19654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C3F1-6D48-4200-9A3A-A6638DA81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710B-D3E0-419B-AE6E-B56921A9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DD76-3145-4A3D-B848-1DC39A5C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66A8-B423-4D35-AD9A-E7604A1F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3930-5CF6-4624-99C1-AA4E4479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36B8-1EAA-4F0B-BF94-0DF8B65C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DE82-29A8-4C09-925B-EF36EDD9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FFEA-7563-424A-AACA-E25A885D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6831-E035-4B7C-9F8B-65CE598E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A582-72EB-4939-A5D2-C431E69C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CDF8-7FC2-463D-BA40-882CCC0DC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aningful and Authentic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arning to Solve Problems with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513: Dr. Thie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581280" y="1143000"/>
            <a:ext cx="198144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838080" y="2362320"/>
            <a:ext cx="297180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952880" y="2209680"/>
            <a:ext cx="3200400" cy="106704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838080" y="5105520"/>
            <a:ext cx="3200400" cy="8380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5105520" y="5029200"/>
            <a:ext cx="312408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 flipH="1">
            <a:off x="838080" y="12193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83808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403848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 flipH="1" flipV="1">
            <a:off x="8153280" y="3200400"/>
            <a:ext cx="763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5562720" y="1143000"/>
            <a:ext cx="2590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581280" y="1143000"/>
            <a:ext cx="198144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838080" y="2362320"/>
            <a:ext cx="297180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952880" y="2209680"/>
            <a:ext cx="3200400" cy="106704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838080" y="5105520"/>
            <a:ext cx="3200400" cy="8380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5105520" y="5029200"/>
            <a:ext cx="312408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H="1">
            <a:off x="838080" y="12193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83808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403848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"/>
          <p:cNvSpPr/>
          <p:nvPr/>
        </p:nvSpPr>
        <p:spPr>
          <a:xfrm flipH="1" flipV="1">
            <a:off x="8153280" y="3200400"/>
            <a:ext cx="763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5562720" y="1143000"/>
            <a:ext cx="2590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2438280" y="3886200"/>
            <a:ext cx="4419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sciplinary Content and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experiment, observe results, modify or manipulate their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 –try new technologies &amp; teaching strategies &amp; see wha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j0305257"/>
          <p:cNvPicPr/>
          <p:nvPr/>
        </p:nvPicPr>
        <p:blipFill>
          <a:blip r:embed="rId1"/>
          <a:stretch/>
        </p:blipFill>
        <p:spPr>
          <a:xfrm>
            <a:off x="6172200" y="2666880"/>
            <a:ext cx="1897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stru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onstruct meaning by reflecting on their experience, and developing new schema to accommodate discrepant information; organizing information; considering alternatives; developing 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TEP  Backwards Curriculum Design; Enduring Understanding, Essential Questions   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ten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re actively engaged in intentional decision making:  goal; strategies;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reflect on their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TEP: choose the topic &amp; curriculum standards for your mini unit; design lessons &amp; assessmen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uthen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knowledge &amp; skills through real world tasks, problem based learning in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, mess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 unit/lesson design are at heart of what teacher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j0335112"/>
          <p:cNvPicPr/>
          <p:nvPr/>
        </p:nvPicPr>
        <p:blipFill>
          <a:blip r:embed="rId1"/>
          <a:stretch/>
        </p:blipFill>
        <p:spPr>
          <a:xfrm>
            <a:off x="1371600" y="1981080"/>
            <a:ext cx="23144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operative/Convers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ork collaboratively in groups, develop multiple perspectives &amp; solutions; audience beyond the classroom or school; substantive oral, written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: working in teams to develop mini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j0233018"/>
          <p:cNvPicPr/>
          <p:nvPr/>
        </p:nvPicPr>
        <p:blipFill>
          <a:blip r:embed="rId1"/>
          <a:stretch/>
        </p:blipFill>
        <p:spPr>
          <a:xfrm>
            <a:off x="5380200" y="2556000"/>
            <a:ext cx="257472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isciplinary Content &amp;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: subject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ry genres, cause &amp; effect, number theory, properties of matter, chronology, historical evidence, scientific data, public issues, visual &amp; performing 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: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ve or expository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03:04:40Z</dcterms:created>
  <dc:creator>thiemag</dc:creator>
  <dc:description/>
  <dc:language>en-US</dc:language>
  <cp:lastModifiedBy>Ben</cp:lastModifiedBy>
  <dcterms:modified xsi:type="dcterms:W3CDTF">2011-01-25T01:28:55Z</dcterms:modified>
  <cp:revision>5</cp:revision>
  <dc:subject/>
  <dc:title>Meaningful and Authentic Learning</dc:title>
</cp:coreProperties>
</file>